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ECE-BAEF-46AC-A76A-9584F994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066-F0F1-4192-AD89-6CAF6040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6416-1BDE-44A1-8936-0B7B9EE6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095-8813-45B7-8B18-29FEC2C8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2DB7-393B-4E63-A15C-225D318A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9C17-D06C-4275-AF2A-3964153F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032-FF5C-4F9B-A50B-6DC52A48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BE8-45AC-40B5-8703-745AD25D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098D-4122-447B-83CE-88A6ACC5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899D-335C-4149-98AD-E5088FF3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B7AD-CD53-4B08-B0E4-CA2C643C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34E3-7A8B-408E-83AC-58D72C34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229B-5C23-4043-AB6D-74216F349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162000"/>
            <a:ext cx="784872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8200"/>
            <a:ext cx="70866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476280"/>
            <a:ext cx="731520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538200"/>
            <a:ext cx="69343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601560"/>
            <a:ext cx="70102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663480"/>
            <a:ext cx="67053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665280"/>
            <a:ext cx="655308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5840"/>
            <a:ext cx="67057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665280"/>
            <a:ext cx="67816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772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663480"/>
            <a:ext cx="66294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3920"/>
            <a:ext cx="77724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351000"/>
            <a:ext cx="746784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49200"/>
            <a:ext cx="72392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12920"/>
            <a:ext cx="7543800" cy="62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539640"/>
            <a:ext cx="72392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17:02Z</dcterms:created>
  <dc:creator>Fr.ALBERTO Wissam</dc:creator>
  <dc:description/>
  <dc:language>en-US</dc:language>
  <cp:lastModifiedBy>Fr.ALBERTO Wissam</cp:lastModifiedBy>
  <dcterms:modified xsi:type="dcterms:W3CDTF">2004-08-16T08:29:46Z</dcterms:modified>
  <cp:revision>2</cp:revision>
  <dc:subject/>
  <dc:title>Slide 1</dc:title>
</cp:coreProperties>
</file>